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9AD-6158-4F32-8BD1-A2F347D3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C45-2412-4C03-A573-A606A725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681B-EAC0-4044-ADA2-AE0B7E3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E04-081C-4DCB-8856-64DD7839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83B-1367-42EE-B313-515D3AC0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441-231A-43C9-A4B4-8565D77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05B-552D-4BAA-93DA-4AE19A2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485-7439-4194-880D-F4034BC8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755-DF65-470B-9C50-9EB7919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A46-BECB-4234-A468-65DC316B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C2B-E2BE-48C2-881E-EE93941F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521-D7C0-42E3-B976-F94E5B4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6D93-3C6A-4025-8925-9393D1601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66ff"/>
            </a:gs>
            <a:gs pos="100000">
              <a:srgbClr val="def6f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9994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пуст…шь  минуту,  потеря…шь  час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1916280"/>
            <a:ext cx="57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7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765000"/>
            <a:ext cx="8424720" cy="36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ква Ь после шипящи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глаголах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dc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 лица единственного чис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dc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3933720"/>
            <a:ext cx="22622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50000">
              <a:srgbClr val="ffff00"/>
            </a:gs>
            <a:gs pos="100000">
              <a:srgbClr val="def6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641160"/>
            <a:ext cx="6419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Ж…лать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х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… ботиться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иж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… чта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a8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102680"/>
            <a:ext cx="761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Запомни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На конце глаголов 2-го лица ед. ч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ишется мягкий знак (ь)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87280" y="476280"/>
            <a:ext cx="6913800" cy="14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9440" y="3228120"/>
            <a:ext cx="826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- подобрать пословиц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оговорки на данную орф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6:47:41Z</dcterms:created>
  <dc:creator>user</dc:creator>
  <dc:description/>
  <dc:language>en-US</dc:language>
  <cp:lastModifiedBy>Гильмутдинова Елена</cp:lastModifiedBy>
  <dcterms:modified xsi:type="dcterms:W3CDTF">2012-03-20T04:08:03Z</dcterms:modified>
  <cp:revision>32</cp:revision>
  <dc:subject/>
  <dc:title>Слайд 1</dc:title>
</cp:coreProperties>
</file>